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FF3-3AE4-48AA-B23F-C87A39E2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E67-D3B3-49F8-A857-37A2FCB7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4A7-9CA1-4F32-87A8-A563B8CC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B1C-3FC8-46B8-9224-2B1EA14C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AF6-6CCD-40B0-A583-AD36A718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4D19-AF10-43E4-9072-27A4F6A6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7126-824F-4EAD-814A-99204EFE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E905-D5BB-4C21-B96E-E2F42B5D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079-874E-47FE-8594-AFF8BCAE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05C7-F4AD-4A32-8A75-EE01951E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5BE0-1F82-439F-8822-7B9D330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294-1554-4636-A3C0-E34E8988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9A1-7A07-44E4-B1BD-5C99EF8A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EA02-5B6D-41FF-97A0-91DE2038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E368-FBD3-4595-BF69-19A4B6CD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A02E-AF95-49DE-B6B1-EB005612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0884-A9E3-46DC-9F89-4612ADE3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56FC-2CE4-4E46-A4DE-2CCBB2C1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CAE8-3BF0-4386-8991-1A9A1823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6768-6BCB-4919-BD0F-53EFDFEA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B112-1847-4B42-9536-EB37F599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D911-F469-4F73-9034-2BC4043A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98E-7232-477A-BDE5-8A80B61B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846E-C31B-4DAB-9BED-4512C1B8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6D8A-950C-4893-99B5-5EC7CB34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E24C-4C8C-4120-BA83-1EBEB53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F529-C58E-4DFF-BE9A-9B43026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13FE-B1E8-4DDF-95D8-6AECB691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9618-2CC4-455F-AD23-1FE9047A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8E7F-E1DE-4CAA-A4BE-E4355323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50A9-02FD-4461-946D-E0F26190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20F31-C05E-4DB8-BA3B-74D4372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1F37-5C82-405F-9975-33006E79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396-F540-400C-9E96-0396EBD5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FA4EB-2C4E-4082-AC0E-F034CA71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BFEF-8C35-43BB-AE95-38B5061C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1398-D1B5-49D8-97E0-DC78AF4B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E150-275B-4B66-9BB8-588C6DC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748F-DC9E-4C87-BF29-8E946F9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3DEF-9CA3-4576-A5AF-F21B270C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2381-586F-42A1-9610-25FD5C95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D29F-6A8D-4F06-92A9-907D4E39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A30CB-DA7D-4BDE-A8F4-E388A459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A6065-68C3-44AE-8C45-F0158F9B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2C0-9114-437F-912C-4AEE975B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D52E-0AFB-4DDD-AF87-BEE26606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5B2B-99A6-4018-B4FA-AFB989F1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D62B-DA7C-458A-984F-AADD51E7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FF157-9A3F-46DE-B7B2-20EC3032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236F-3387-4756-8DAF-71351B24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CFA1E-8F1A-4C1C-9277-FB2AAC6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59A9A-AB3B-4C4F-9CE5-DD086E1A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B5BE-BA44-45F8-BD1D-BF175472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0A241-2AD6-43B3-ACB4-BC673DC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8012E-3F8F-44E1-A730-6E97B16A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28C-A5F9-4A9B-864D-909DB7B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E75F9-7E66-4B0C-BCA1-FF018736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0B21-D269-4D7B-AAEE-F6451FAB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21C2B-9A11-4115-AA22-CCEA9876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BC947-D584-4527-B252-40628311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76F70-2E4C-40EA-9470-016EB718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C7514-7851-4685-9A6A-2B5FC247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71D6-1271-409E-8853-B11A06C6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6ACB-B851-4FF7-AA9F-2A1D032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3F918-8B1F-4B97-B487-73E29B7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BEC6B-F109-4FD8-8196-D613C72E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AB0-48B4-4C8A-AC6C-3765CF07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77EF-7685-463A-8559-4317B996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D25AF-C097-4E2A-AB7A-EEDB70C5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4E017-04E3-477B-9931-7A970EB7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764FD-C41C-40DD-92A2-BC02247B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74528-85A0-4455-A0A2-5C10399B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C1637-D465-41B7-B666-8DDC326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2F3F0-586D-4EB9-BE7E-49176223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ED961-F7B6-4963-B1B2-379C45A0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E4914-CACD-4540-84D7-DC157AF3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BBC2-BFCE-4FB3-94FE-1F00C57A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983-9498-494C-B77E-429A4DA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36415-9B61-4067-BEBE-CFBA6FCB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AA818-4752-490E-AD18-72963CE5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A530-89CE-4805-A63D-2F02250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D1F5D-A0BA-4A01-BFBC-7DA2F94F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30A2B-EDBF-4CF4-9FDE-A0D48C54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57A2A-56B4-4D09-A6E8-94A3196F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C04C2-86A9-43C1-9CBB-F35DB625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0B164-C388-4EB7-B9F7-98E1E558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E4953-87E0-4941-A444-031DB475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9FDAF-2C5C-425B-86E9-F774993C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B18-87AD-4B9B-878E-E078753C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593A8-EBEE-4F0B-BD1E-9E9A6E7D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2D62E-BC4B-4C46-A55A-F879F76D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1DB9-02DF-4F1A-AD5E-2DE91E1A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8E50D-555B-4AFC-8D50-9115570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6F61-C24F-4F91-813D-BE0F706B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14C30-FC81-482D-A423-35F68CB4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3B1E-6DCB-49DC-88E3-985ACF09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2A53-43C0-4792-8271-5EDC41E1896C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999-969C-4DF5-9994-3974B077F0E3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93CC-EEBF-4509-8777-0B2C7BAEBD10}" type="slidenum"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30F5-4027-459A-84CB-46242F829E7F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F60D-A235-41F1-BF12-6A195F553209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03AE-09A1-4082-9525-1AAADC464FD5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A0D8-121F-4B9B-8119-E3F930F0801B}" type="slidenum"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BF35-C4A4-492D-B21A-76F19A0C62F5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6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Прямоугольник 8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Прямоугольник 9"/>
          <p:cNvSpPr/>
          <p:nvPr/>
        </p:nvSpPr>
        <p:spPr>
          <a:xfrm>
            <a:off x="642960" y="54936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Прямоугольник 8"/>
          <p:cNvSpPr/>
          <p:nvPr/>
        </p:nvSpPr>
        <p:spPr>
          <a:xfrm>
            <a:off x="826920" y="333360"/>
            <a:ext cx="806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45922"/>
                </a:solidFill>
                <a:latin typeface="Times New Roman"/>
                <a:ea typeface="Times New Roman"/>
              </a:rPr>
              <a:t>Альберт Гата улы Яхин методикасы буенча  әдәбият дәрес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8" name="Прямоугольник 9"/>
          <p:cNvSpPr/>
          <p:nvPr/>
        </p:nvSpPr>
        <p:spPr>
          <a:xfrm>
            <a:off x="971640" y="148428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Галимҗан Ибраһимовның</a:t>
            </a:r>
            <a:br>
              <a:rPr sz="4800"/>
            </a:br>
            <a:r>
              <a:rPr b="1" i="1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Алмачуар” </a:t>
            </a:r>
            <a:br>
              <a:rPr sz="4800"/>
            </a:br>
            <a:r>
              <a:rPr b="1" i="1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сәрендә  гаделлек темасы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2"/>
          <p:cNvSpPr/>
          <p:nvPr/>
        </p:nvSpPr>
        <p:spPr>
          <a:xfrm>
            <a:off x="1785960" y="64296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785880" y="1928880"/>
            <a:ext cx="8143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1042920" y="692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ыйгалар схемасы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3" name="Прямоугольник 7"/>
          <p:cNvSpPr/>
          <p:nvPr/>
        </p:nvSpPr>
        <p:spPr>
          <a:xfrm>
            <a:off x="611280" y="1628640"/>
            <a:ext cx="8064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539640" y="1083600"/>
            <a:ext cx="820908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лмачуар» 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әсәр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деллек                                                                     Закирның мәхәббәте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(дөреслек, хаклык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Гаделсезлек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Әлемгол             Кара            Староста      Закир                                 үзенә         Алмачуарга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бай                      бай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вакыйгасы                                                                                    чаптар       Сабантуенда    дан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булганга      узу өчен         өчен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җәза                     җәза               җәза            җәза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5" name="Прямая со стрелкой 11"/>
          <p:cNvCxnSpPr/>
          <p:nvPr/>
        </p:nvCxnSpPr>
        <p:spPr>
          <a:xfrm>
            <a:off x="5580000" y="1628640"/>
            <a:ext cx="72144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26" name="Прямая со стрелкой 14"/>
          <p:cNvCxnSpPr/>
          <p:nvPr/>
        </p:nvCxnSpPr>
        <p:spPr>
          <a:xfrm flipH="1">
            <a:off x="2410920" y="1557000"/>
            <a:ext cx="122472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27" name="Прямая со стрелкой 22"/>
          <p:cNvCxnSpPr/>
          <p:nvPr/>
        </p:nvCxnSpPr>
        <p:spPr>
          <a:xfrm flipH="1" flipV="1">
            <a:off x="2245680" y="2687040"/>
            <a:ext cx="22680" cy="4546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28" name="Прямая со стрелкой 27"/>
          <p:cNvCxnSpPr/>
          <p:nvPr/>
        </p:nvCxnSpPr>
        <p:spPr>
          <a:xfrm>
            <a:off x="2410920" y="2708280"/>
            <a:ext cx="1080" cy="4341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29" name="Прямая со стрелкой 31"/>
          <p:cNvCxnSpPr/>
          <p:nvPr/>
        </p:nvCxnSpPr>
        <p:spPr>
          <a:xfrm flipH="1">
            <a:off x="2915640" y="2565000"/>
            <a:ext cx="338508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0" name="Прямая со стрелкой 33"/>
          <p:cNvCxnSpPr/>
          <p:nvPr/>
        </p:nvCxnSpPr>
        <p:spPr>
          <a:xfrm>
            <a:off x="6443280" y="2565360"/>
            <a:ext cx="1080" cy="1440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1" name="Прямая со стрелкой 35"/>
          <p:cNvCxnSpPr/>
          <p:nvPr/>
        </p:nvCxnSpPr>
        <p:spPr>
          <a:xfrm>
            <a:off x="6875640" y="2565000"/>
            <a:ext cx="792720" cy="1369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2" name="Прямая со стрелкой 37"/>
          <p:cNvCxnSpPr/>
          <p:nvPr/>
        </p:nvCxnSpPr>
        <p:spPr>
          <a:xfrm flipH="1" flipV="1">
            <a:off x="2770920" y="2420640"/>
            <a:ext cx="3313800" cy="144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3" name="Прямая со стрелкой 39"/>
          <p:cNvCxnSpPr/>
          <p:nvPr/>
        </p:nvCxnSpPr>
        <p:spPr>
          <a:xfrm flipH="1">
            <a:off x="1402920" y="3357360"/>
            <a:ext cx="72144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4" name="Прямая со стрелкой 41"/>
          <p:cNvCxnSpPr/>
          <p:nvPr/>
        </p:nvCxnSpPr>
        <p:spPr>
          <a:xfrm>
            <a:off x="2268360" y="3357360"/>
            <a:ext cx="21672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5" name="Прямая со стрелкой 43"/>
          <p:cNvCxnSpPr/>
          <p:nvPr/>
        </p:nvCxnSpPr>
        <p:spPr>
          <a:xfrm>
            <a:off x="2410920" y="3357720"/>
            <a:ext cx="1081800" cy="576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6" name="Прямая со стрелкой 45"/>
          <p:cNvCxnSpPr/>
          <p:nvPr/>
        </p:nvCxnSpPr>
        <p:spPr>
          <a:xfrm>
            <a:off x="2626920" y="3357360"/>
            <a:ext cx="180108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7" name="Прямая со стрелкой 47"/>
          <p:cNvCxnSpPr/>
          <p:nvPr/>
        </p:nvCxnSpPr>
        <p:spPr>
          <a:xfrm flipH="1">
            <a:off x="6084000" y="4221000"/>
            <a:ext cx="1296360" cy="216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8" name="Прямая со стрелкой 49"/>
          <p:cNvCxnSpPr/>
          <p:nvPr/>
        </p:nvCxnSpPr>
        <p:spPr>
          <a:xfrm flipH="1">
            <a:off x="7163640" y="4221000"/>
            <a:ext cx="361080" cy="216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9" name="Прямая со стрелкой 51"/>
          <p:cNvCxnSpPr/>
          <p:nvPr/>
        </p:nvCxnSpPr>
        <p:spPr>
          <a:xfrm>
            <a:off x="7667280" y="4221000"/>
            <a:ext cx="289440" cy="216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0" name="Прямая со стрелкой 53"/>
          <p:cNvCxnSpPr/>
          <p:nvPr/>
        </p:nvCxnSpPr>
        <p:spPr>
          <a:xfrm>
            <a:off x="1402920" y="4653000"/>
            <a:ext cx="1080" cy="2167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1" name="Прямая со стрелкой 55"/>
          <p:cNvCxnSpPr/>
          <p:nvPr/>
        </p:nvCxnSpPr>
        <p:spPr>
          <a:xfrm>
            <a:off x="2555640" y="4436640"/>
            <a:ext cx="1080" cy="361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2" name="Прямая со стрелкой 57"/>
          <p:cNvCxnSpPr/>
          <p:nvPr/>
        </p:nvCxnSpPr>
        <p:spPr>
          <a:xfrm>
            <a:off x="3634920" y="4221000"/>
            <a:ext cx="108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3" name="Прямая со стрелкой 59"/>
          <p:cNvCxnSpPr/>
          <p:nvPr/>
        </p:nvCxnSpPr>
        <p:spPr>
          <a:xfrm>
            <a:off x="4500360" y="4221000"/>
            <a:ext cx="108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6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7"/>
          <p:cNvSpPr/>
          <p:nvPr/>
        </p:nvSpPr>
        <p:spPr>
          <a:xfrm>
            <a:off x="3492360" y="1413000"/>
            <a:ext cx="49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6" name="Прямоугольник 5"/>
          <p:cNvSpPr/>
          <p:nvPr/>
        </p:nvSpPr>
        <p:spPr>
          <a:xfrm flipV="1" rot="10800000">
            <a:off x="1042560" y="504396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Прямоугольник 5"/>
          <p:cNvSpPr/>
          <p:nvPr/>
        </p:nvSpPr>
        <p:spPr>
          <a:xfrm>
            <a:off x="1403280" y="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үзләргә аңлат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8" name="Прямоугольник 6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9" name="Прямоугольник 8"/>
          <p:cNvSpPr/>
          <p:nvPr/>
        </p:nvSpPr>
        <p:spPr>
          <a:xfrm>
            <a:off x="611280" y="83664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тиха кылды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а-ананың, остазның һ.б. рәсми рәвештә белдерелгән изге теләге, ризалыгы, юлламасы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бүҗәһел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йләкәр, алдакчы, явыз кеше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ер-до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хшы теләк, яхшы дога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рәмлә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дады, ялганлады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үлия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е кеше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стә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ыру, кыерсыту,кысу,урынсызга кимсетү, җәберләү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з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үз өстенә алган эш, шартлы вәгъдә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фе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әрсәне дә булса булдырырга көчле омтылыш, күпне өмет итү, комсызлык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2"/>
          <p:cNvSpPr/>
          <p:nvPr/>
        </p:nvSpPr>
        <p:spPr>
          <a:xfrm>
            <a:off x="1908000" y="549360"/>
            <a:ext cx="63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Прямоугольник 8"/>
          <p:cNvSpPr/>
          <p:nvPr/>
        </p:nvSpPr>
        <p:spPr>
          <a:xfrm>
            <a:off x="971640" y="476280"/>
            <a:ext cx="770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ресебезне Г.Ибраһимовның тормыш иптәше Гөлсем Мөхәммәдованың сүзләре белән тәмамлыйсым килә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мҗан – бала җанлы кеше иде.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ңа инаныр өчен “Алмачуар” әсәрен генә укып карау да җитә. Бу гүзәл повесть минем иң беренче укыган әсәрем иде. Мин аны хәзер дә кайта-кайта укыйм. Ул шундый әсәр. Аны бөек язучы һәм бала җанлы кеше язган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 бөек язучы – үз күңелендәге балалыкны җуймаган кеше ул”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6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3" name="Прямоугольник 9"/>
          <p:cNvSpPr/>
          <p:nvPr/>
        </p:nvSpPr>
        <p:spPr>
          <a:xfrm>
            <a:off x="642960" y="54936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Прямоугольник 8"/>
          <p:cNvSpPr/>
          <p:nvPr/>
        </p:nvSpPr>
        <p:spPr>
          <a:xfrm>
            <a:off x="826920" y="33336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Прямоугольник 9"/>
          <p:cNvSpPr/>
          <p:nvPr/>
        </p:nvSpPr>
        <p:spPr>
          <a:xfrm>
            <a:off x="971640" y="1484280"/>
            <a:ext cx="727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6" name="Прямоугольник 10"/>
          <p:cNvSpPr/>
          <p:nvPr/>
        </p:nvSpPr>
        <p:spPr>
          <a:xfrm>
            <a:off x="1187280" y="2602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745922"/>
                </a:solidFill>
                <a:latin typeface="Times New Roman"/>
                <a:ea typeface="Times New Roman"/>
              </a:rPr>
              <a:t>Максатлар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7" name="Прямоугольник 11"/>
          <p:cNvSpPr/>
          <p:nvPr/>
        </p:nvSpPr>
        <p:spPr>
          <a:xfrm>
            <a:off x="971640" y="1268280"/>
            <a:ext cx="770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Сәнгат</a:t>
            </a:r>
            <a:r>
              <a:rPr b="1" lang="ru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ьле с</a:t>
            </a:r>
            <a:r>
              <a:rPr b="1" lang="tt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өйләм (нәфис сүз остасы)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Анализ ясау (тәнкыйт</a:t>
            </a:r>
            <a:r>
              <a:rPr b="1" lang="ru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ьче)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Нәтиҗә чыгару (әдәбият галиме)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2"/>
          <p:cNvSpPr/>
          <p:nvPr/>
        </p:nvSpPr>
        <p:spPr>
          <a:xfrm>
            <a:off x="2286000" y="357120"/>
            <a:ext cx="5929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468000" y="2349360"/>
          <a:ext cx="2520720" cy="549360"/>
        </p:xfrm>
        <a:graphic>
          <a:graphicData uri="http://schemas.openxmlformats.org/drawingml/2006/table">
            <a:tbl>
              <a:tblPr/>
              <a:tblGrid>
                <a:gridCol w="1260360"/>
                <a:gridCol w="126036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371" name="Рисунок 20" descr="http://www.kitaphane.ru/ebooks/gibrag/1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78560" y="390600"/>
            <a:ext cx="3163680" cy="48639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6"/>
          <p:cNvSpPr/>
          <p:nvPr/>
        </p:nvSpPr>
        <p:spPr>
          <a:xfrm>
            <a:off x="468360" y="981000"/>
            <a:ext cx="482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раһимов!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 – гаҗәеп матур, нечкә тел маһиры, тормышның бөтен катламнарын тирәнтен өйрәнеп, белеп иҗат иткән чын реалистик әсәрләр – романнар, повестьлар, хикәяләр язган проза остасы, ул - әдәбият галиме, күренекле тәнкыйтьче, тарихчы һәм телче, педагог, күп яшьләрнең турыдан-туры дәрес биргән укытучысы; ул – журналист та, башлап йөрүче – оештыручы, җәмәгать эшлеклесе” (Р.Гатауллин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74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2" descr=""/>
          <p:cNvPicPr/>
          <p:nvPr/>
        </p:nvPicPr>
        <p:blipFill>
          <a:blip r:embed="rId2"/>
          <a:stretch/>
        </p:blipFill>
        <p:spPr>
          <a:xfrm>
            <a:off x="2771640" y="5445000"/>
            <a:ext cx="3095640" cy="93672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4859280" y="981000"/>
            <a:ext cx="403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539640" y="1268280"/>
            <a:ext cx="3672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539640" y="2386080"/>
            <a:ext cx="2952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Прямоугольник 10"/>
          <p:cNvSpPr/>
          <p:nvPr/>
        </p:nvSpPr>
        <p:spPr>
          <a:xfrm flipV="1" rot="10800000">
            <a:off x="1619280" y="51822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0" name="Picture 5" descr="Изображение 052"/>
          <p:cNvPicPr/>
          <p:nvPr/>
        </p:nvPicPr>
        <p:blipFill>
          <a:blip r:embed="rId3"/>
          <a:stretch/>
        </p:blipFill>
        <p:spPr>
          <a:xfrm>
            <a:off x="611280" y="476280"/>
            <a:ext cx="3960720" cy="540072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10"/>
          <p:cNvSpPr/>
          <p:nvPr/>
        </p:nvSpPr>
        <p:spPr>
          <a:xfrm>
            <a:off x="4859280" y="476280"/>
            <a:ext cx="41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мҗан ага бик ягымлы, йомшак күңелле, үткен карашлы, киң колачлы галим иде”.</a:t>
            </a:r>
            <a:br>
              <a:rPr sz="4000"/>
            </a:b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4000"/>
            </a:b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. Мөштәри</a:t>
            </a:r>
            <a:r>
              <a:rPr b="0" i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7"/>
          <p:cNvSpPr/>
          <p:nvPr/>
        </p:nvSpPr>
        <p:spPr>
          <a:xfrm>
            <a:off x="2509920" y="32446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4" name="Picture 3" descr="Изображение 051"/>
          <p:cNvPicPr/>
          <p:nvPr/>
        </p:nvPicPr>
        <p:blipFill>
          <a:blip r:embed="rId2"/>
          <a:stretch/>
        </p:blipFill>
        <p:spPr>
          <a:xfrm>
            <a:off x="4788000" y="549360"/>
            <a:ext cx="3600360" cy="54118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9"/>
          <p:cNvSpPr/>
          <p:nvPr/>
        </p:nvSpPr>
        <p:spPr>
          <a:xfrm>
            <a:off x="539640" y="76500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мҗан Ибраһимов – киң колачлы, тормышка үтеп керә торган сизгер һәм үткер күзле язучы”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Фадеев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414180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1428840" y="357120"/>
            <a:ext cx="6572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14240" y="2565360"/>
          <a:ext cx="325440" cy="525600"/>
        </p:xfrm>
        <a:graphic>
          <a:graphicData uri="http://schemas.openxmlformats.org/drawingml/2006/table">
            <a:tbl>
              <a:tblPr/>
              <a:tblGrid>
                <a:gridCol w="173520"/>
                <a:gridCol w="173520"/>
              </a:tblGrid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390" name="Picture 3" descr="Изображение 050"/>
          <p:cNvPicPr/>
          <p:nvPr/>
        </p:nvPicPr>
        <p:blipFill>
          <a:blip r:embed="rId2"/>
          <a:stretch/>
        </p:blipFill>
        <p:spPr>
          <a:xfrm>
            <a:off x="611280" y="549360"/>
            <a:ext cx="3600360" cy="57592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7"/>
          <p:cNvSpPr/>
          <p:nvPr/>
        </p:nvSpPr>
        <p:spPr>
          <a:xfrm>
            <a:off x="4427640" y="476280"/>
            <a:ext cx="47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браһимов ару-талуны белми торган гаҗәп зирәк һәм булдыклы, зур талант ияләренә генә хас күп кырлы бер эшлекле иде”.</a:t>
            </a:r>
            <a:br>
              <a:rPr sz="3600"/>
            </a:b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Терегулов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6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Прямоугольник 7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30081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Прямоугольник 9"/>
          <p:cNvSpPr/>
          <p:nvPr/>
        </p:nvSpPr>
        <p:spPr>
          <a:xfrm>
            <a:off x="642960" y="54936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Прямоугольник 8"/>
          <p:cNvSpPr/>
          <p:nvPr/>
        </p:nvSpPr>
        <p:spPr>
          <a:xfrm>
            <a:off x="4211640" y="33336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Прямоугольник 9"/>
          <p:cNvSpPr/>
          <p:nvPr/>
        </p:nvSpPr>
        <p:spPr>
          <a:xfrm>
            <a:off x="971640" y="1484280"/>
            <a:ext cx="727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99" name="Picture 33" descr="http://gibrahimov.ucoz.ru/_ph/3/2/595987058.jpg"/>
          <p:cNvPicPr/>
          <p:nvPr/>
        </p:nvPicPr>
        <p:blipFill>
          <a:blip r:embed="rId2"/>
          <a:stretch/>
        </p:blipFill>
        <p:spPr>
          <a:xfrm>
            <a:off x="539640" y="765000"/>
            <a:ext cx="3229200" cy="47628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5"/>
          <p:cNvSpPr/>
          <p:nvPr/>
        </p:nvSpPr>
        <p:spPr>
          <a:xfrm>
            <a:off x="4140360" y="828720"/>
            <a:ext cx="44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чуар-төс, таплар төшкән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чуар-ат исеме, чөнки атның төсе шундый таплы булган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чуар”-әсәр исеме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1785960" y="64296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785880" y="1928880"/>
            <a:ext cx="8143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1042920" y="692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1d1409"/>
                </a:solidFill>
                <a:latin typeface="Times New Roman"/>
                <a:ea typeface="Times New Roman"/>
              </a:rPr>
              <a:t>Чәчмә әсәрне анализлау тәртибе: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Прямоугольник 5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6" name="Прямоугольник 6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7" name="Прямоугольник 7"/>
          <p:cNvSpPr/>
          <p:nvPr/>
        </p:nvSpPr>
        <p:spPr>
          <a:xfrm>
            <a:off x="611280" y="1628640"/>
            <a:ext cx="8064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8" name="Прямоугольник 8"/>
          <p:cNvSpPr/>
          <p:nvPr/>
        </p:nvSpPr>
        <p:spPr>
          <a:xfrm>
            <a:off x="539640" y="1557360"/>
            <a:ext cx="8425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кыйгаларны барлау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акыйгаларның охшашларын гомумиләштереп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е өлешкә калдыру.             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Һәр өлешкә анализ ясау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Өлешләр арасында бәйләнеш эзләү (каршылык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ема, проблема, идеясен ачыклау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2"/>
          <p:cNvSpPr/>
          <p:nvPr/>
        </p:nvSpPr>
        <p:spPr>
          <a:xfrm>
            <a:off x="1785960" y="64296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785880" y="1928880"/>
            <a:ext cx="8143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1042920" y="692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ыйгалар схемасы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Прямоугольник 5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Прямоугольник 6"/>
          <p:cNvSpPr/>
          <p:nvPr/>
        </p:nvSpPr>
        <p:spPr>
          <a:xfrm>
            <a:off x="33670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611280" y="1628640"/>
            <a:ext cx="8064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Rectangle 53"/>
          <p:cNvSpPr/>
          <p:nvPr/>
        </p:nvSpPr>
        <p:spPr>
          <a:xfrm>
            <a:off x="755640" y="2009880"/>
            <a:ext cx="8064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корт бае лемгол Сабантуйда гаделсез көрәшә, чирли, гафу үтенә, Хафизга яхшы атын бирә, гафу ителә, терелә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Кара бай Закирның абыйсын нахакка гаепли, төрмәгә утырта, гафу үтенми, үлә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Староста Сабантуйда беренче урынны гаделсез билгели, бите яралана, гафу үтенә, акча бирә, юаныч таб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Закир үзен – үзе генә ярата, башкалар белән исәпләшми, старостаның битенә суга, гафу үтенми, Алмачуарга гаделсез, атын кыйный, соңыннан йөртми, аты үлә. Иң зур җәзага дучар була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2:06:13Z</dcterms:created>
  <dc:creator>Customer</dc:creator>
  <dc:description/>
  <dc:language>en-US</dc:language>
  <cp:lastModifiedBy>Пользователь</cp:lastModifiedBy>
  <dcterms:modified xsi:type="dcterms:W3CDTF">2012-02-28T15:54:12Z</dcterms:modified>
  <cp:revision>46</cp:revision>
  <dc:subject/>
  <dc:title>Слайд 1</dc:title>
</cp:coreProperties>
</file>